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49B4-60D7-4D78-9A61-473B2681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85BC-0570-4E9F-9B65-D2A7D249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1202-382A-4EE5-A605-53A936BF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50A7-E748-4618-BFBB-727309D61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5EA-30E3-4F7A-82AF-3D63F19B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8F4-CB94-4909-A67E-D710944E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A88-C2F0-440A-8142-A3207D7D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A44B-AC18-46C0-9919-967165B4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8F1E-3A67-4617-B738-3E6B12150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E015-F3A1-4868-B149-B21BA71F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0AE1-0BB6-410A-A345-91F05858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71C-0FC0-4628-85E6-875284BD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C3F3-E9FE-4899-8E7E-EFF2CA9C1A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8800" y="1774800"/>
            <a:ext cx="877860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What are some of the differences in spoken Chinese in different parts of China? What are some of the differences in spoken English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28003"/>
          <p:cNvSpPr/>
          <p:nvPr/>
        </p:nvSpPr>
        <p:spPr>
          <a:xfrm>
            <a:off x="1275840" y="72864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冀教版　八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46080"/>
            <a:ext cx="8229600" cy="60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ain            North  Ame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u=3719924234,3394996561&amp;fm=21&amp;gp=0"/>
          <p:cNvPicPr/>
          <p:nvPr/>
        </p:nvPicPr>
        <p:blipFill>
          <a:blip r:embed="rId1"/>
          <a:stretch/>
        </p:blipFill>
        <p:spPr>
          <a:xfrm>
            <a:off x="684360" y="476280"/>
            <a:ext cx="1722240" cy="1143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u=2132640778,410682949&amp;fm=21&amp;gp=0"/>
          <p:cNvPicPr/>
          <p:nvPr/>
        </p:nvPicPr>
        <p:blipFill>
          <a:blip r:embed="rId2"/>
          <a:stretch/>
        </p:blipFill>
        <p:spPr>
          <a:xfrm>
            <a:off x="900000" y="2925720"/>
            <a:ext cx="1440000" cy="129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u=1385408991,2677695065&amp;fm=23&amp;gp=0"/>
          <p:cNvPicPr/>
          <p:nvPr/>
        </p:nvPicPr>
        <p:blipFill>
          <a:blip r:embed="rId3"/>
          <a:stretch/>
        </p:blipFill>
        <p:spPr>
          <a:xfrm>
            <a:off x="684360" y="4221000"/>
            <a:ext cx="1800000" cy="1154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u=1915732653,1853987721&amp;fm=23&amp;gp=0"/>
          <p:cNvPicPr/>
          <p:nvPr/>
        </p:nvPicPr>
        <p:blipFill>
          <a:blip r:embed="rId4"/>
          <a:stretch/>
        </p:blipFill>
        <p:spPr>
          <a:xfrm>
            <a:off x="612720" y="5518080"/>
            <a:ext cx="1943280" cy="1349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2994120" y="10033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975280" y="1042920"/>
            <a:ext cx="14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3114720" y="2168640"/>
            <a:ext cx="13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6014880" y="2060640"/>
            <a:ext cx="15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3114720" y="3333600"/>
            <a:ext cx="13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6151680" y="3387600"/>
            <a:ext cx="12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3209760" y="4757760"/>
            <a:ext cx="12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6300720" y="443700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3371760" y="6275520"/>
            <a:ext cx="12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7"/>
          <p:cNvSpPr/>
          <p:nvPr/>
        </p:nvSpPr>
        <p:spPr>
          <a:xfrm>
            <a:off x="6354720" y="6072120"/>
            <a:ext cx="12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2844720" y="836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5724360" y="8269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w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3132000" y="1989000"/>
            <a:ext cx="165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bb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1" descr="u=2340760041,943120320&amp;fm=21&amp;gp=0"/>
          <p:cNvPicPr/>
          <p:nvPr/>
        </p:nvPicPr>
        <p:blipFill>
          <a:blip r:embed="rId5"/>
          <a:stretch/>
        </p:blipFill>
        <p:spPr>
          <a:xfrm>
            <a:off x="755640" y="1628640"/>
            <a:ext cx="1511280" cy="1295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2"/>
          <p:cNvSpPr/>
          <p:nvPr/>
        </p:nvSpPr>
        <p:spPr>
          <a:xfrm>
            <a:off x="5797440" y="1844640"/>
            <a:ext cx="217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rb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3133800" y="31575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o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5940360" y="325296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3060720" y="45277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v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6178680" y="4702320"/>
            <a:ext cx="149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3400560" y="6099120"/>
            <a:ext cx="20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6516720" y="5877000"/>
            <a:ext cx="7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86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知识巩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If you can't come, please__________ (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我打电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ow are you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______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 (do ) these day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What's another way of _______ (say) " How are you"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Paper money ____ for over one thousand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used           B. has been 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has used    D. is 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38243"/>
          <p:cNvSpPr/>
          <p:nvPr/>
        </p:nvSpPr>
        <p:spPr>
          <a:xfrm>
            <a:off x="5003640" y="1197000"/>
            <a:ext cx="16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ng me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138244"/>
          <p:cNvSpPr/>
          <p:nvPr/>
        </p:nvSpPr>
        <p:spPr>
          <a:xfrm>
            <a:off x="3203640" y="162864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38245"/>
          <p:cNvSpPr/>
          <p:nvPr/>
        </p:nvSpPr>
        <p:spPr>
          <a:xfrm>
            <a:off x="4572000" y="19890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笑脸 138246"/>
          <p:cNvSpPr/>
          <p:nvPr/>
        </p:nvSpPr>
        <p:spPr>
          <a:xfrm>
            <a:off x="2700360" y="3141720"/>
            <a:ext cx="431640" cy="43164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4"/>
          <p:cNvSpPr/>
          <p:nvPr/>
        </p:nvSpPr>
        <p:spPr>
          <a:xfrm>
            <a:off x="612720" y="765000"/>
            <a:ext cx="8136000" cy="273708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Task 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ke a conversation to talk abo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ifferences between British 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American English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pronunciation, uses, spelling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>
            <a:off x="684360" y="3502080"/>
            <a:ext cx="8135640" cy="2736720"/>
          </a:xfrm>
          <a:prstGeom prst="flowChartPunchedTap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ask 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o you know more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tween different languag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a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98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Search for more differences between American English and British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Finish the exercis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Preview next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644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9 : Ring Up or Cal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8580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 ['britiʃ]    adj.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英国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不列颠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英国人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英语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ll [spel]      spell  [spel] (spelt  spelt)    v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拼，拼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mar ['græmə]   n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语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[træns'let]  V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翻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[ə'mɛrɪkɚn]  adj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美国的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美国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n  [ɔ:'streiljən] adj.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澳大利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澳大利亚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31073" descr="u=4175922258,3826730577&amp;fm=21&amp;gp=0"/>
          <p:cNvPicPr/>
          <p:nvPr/>
        </p:nvPicPr>
        <p:blipFill>
          <a:blip r:embed="rId1"/>
          <a:stretch/>
        </p:blipFill>
        <p:spPr>
          <a:xfrm>
            <a:off x="3781440" y="1054080"/>
            <a:ext cx="5183280" cy="4896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hroom ['wɑʃrum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hroom ['bæθrum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132099" descr="u=2678434887,1861881352&amp;fm=23&amp;gp=0"/>
          <p:cNvPicPr/>
          <p:nvPr/>
        </p:nvPicPr>
        <p:blipFill>
          <a:blip r:embed="rId1"/>
          <a:stretch/>
        </p:blipFill>
        <p:spPr>
          <a:xfrm>
            <a:off x="181080" y="333360"/>
            <a:ext cx="7127640" cy="604836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132100"/>
          <p:cNvSpPr/>
          <p:nvPr/>
        </p:nvSpPr>
        <p:spPr>
          <a:xfrm>
            <a:off x="5437080" y="2997360"/>
            <a:ext cx="31687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nunc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[prəu,nʌnsi'eiʃən]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32101"/>
          <p:cNvSpPr/>
          <p:nvPr/>
        </p:nvSpPr>
        <p:spPr>
          <a:xfrm>
            <a:off x="5437080" y="4653000"/>
            <a:ext cx="32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nounc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[prə'naʊn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428760"/>
            <a:ext cx="8928000" cy="642924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133123"/>
          <p:cNvSpPr/>
          <p:nvPr/>
        </p:nvSpPr>
        <p:spPr>
          <a:xfrm>
            <a:off x="4718160" y="1628640"/>
            <a:ext cx="194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33124"/>
          <p:cNvSpPr/>
          <p:nvPr/>
        </p:nvSpPr>
        <p:spPr>
          <a:xfrm>
            <a:off x="5797080" y="3286080"/>
            <a:ext cx="45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33125"/>
          <p:cNvSpPr/>
          <p:nvPr/>
        </p:nvSpPr>
        <p:spPr>
          <a:xfrm>
            <a:off x="6661080" y="3862440"/>
            <a:ext cx="80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33126"/>
          <p:cNvSpPr/>
          <p:nvPr/>
        </p:nvSpPr>
        <p:spPr>
          <a:xfrm>
            <a:off x="3565440" y="551808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42920" y="380880"/>
            <a:ext cx="9001080" cy="6143760"/>
          </a:xfrm>
          <a:prstGeom prst="rect">
            <a:avLst/>
          </a:prstGeom>
          <a:ln w="0">
            <a:noFill/>
          </a:ln>
        </p:spPr>
      </p:pic>
      <p:sp>
        <p:nvSpPr>
          <p:cNvPr id="56" name="笑脸 134147"/>
          <p:cNvSpPr/>
          <p:nvPr/>
        </p:nvSpPr>
        <p:spPr>
          <a:xfrm>
            <a:off x="611280" y="1484280"/>
            <a:ext cx="360360" cy="57636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笑脸 134148"/>
          <p:cNvSpPr/>
          <p:nvPr/>
        </p:nvSpPr>
        <p:spPr>
          <a:xfrm>
            <a:off x="612720" y="2852640"/>
            <a:ext cx="358920" cy="5050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笑脸 134149"/>
          <p:cNvSpPr/>
          <p:nvPr/>
        </p:nvSpPr>
        <p:spPr>
          <a:xfrm>
            <a:off x="611280" y="5805360"/>
            <a:ext cx="360360" cy="503280"/>
          </a:xfrm>
          <a:prstGeom prst="smileyFace">
            <a:avLst>
              <a:gd name="adj" fmla="val 465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74600" y="-20520"/>
            <a:ext cx="941544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sk-based 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Brian is busy writing a report on Asia. 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" Ring up " means ______________________ in British Engl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Why do Canadians use "eh" at the end of their sent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Sometimes we describe the same thing in different ways or use different words. (transl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6804000" y="907920"/>
            <a:ext cx="45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780000" y="12682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l somone on the ph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611280" y="3502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y describe the same thing in different ways or use different words.There are also differences in pronunciation and gram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828720" y="5950080"/>
            <a:ext cx="69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有时候我们用不同方式或不同的词描述相同的事物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about the differen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2743200"/>
                <a:gridCol w="2741760"/>
                <a:gridCol w="2744640"/>
              </a:tblGrid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tish 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erican 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4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cabu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umn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ll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6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l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r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ing up someon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l someone on the ph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0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her differn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2T02:47:33Z</dcterms:created>
  <dc:creator> </dc:creator>
  <dc:description> </dc:description>
  <dc:language>en-US</dc:language>
  <cp:lastModifiedBy>Administrator</cp:lastModifiedBy>
  <dcterms:modified xsi:type="dcterms:W3CDTF">2019-01-02T02:47:47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